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57B-2A62-475D-AD93-C3CB485A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E56-E74C-41BD-B435-ED4A93F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7DD-C169-49FD-BB5E-F5D0E1C8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22B-AC1B-4D5B-AE40-BA1345D0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86D-067C-43F2-97BE-2515A764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684-BC12-4F06-8584-EC29A15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0F0-582E-47F1-B1BD-26B5331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F70-265F-4002-BF92-0D64910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38A-8A10-4DCC-87B3-6CF57338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865-9C73-454B-AE86-EA915C4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FAF-5713-4078-8A08-24FF4FE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425-4E92-496F-9175-9832207A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7FF-9960-4D28-8AFA-139A95C30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surgeoncommodore.co.uk/images/Fish-and-Chips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oodlands-junior.kent.sch.uk/customs/questions/" TargetMode="External"/><Relationship Id="rId2" Type="http://schemas.openxmlformats.org/officeDocument/2006/relationships/hyperlink" Target="http://www.woodlands-junior.kent.sch.uk/customs/questions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1371240"/>
            <a:ext cx="46483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Brit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ttie, Sydney, and L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rade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lp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Cooper Black"/>
              </a:rPr>
              <a:t>U.K.’s Basic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47,112,000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English or Brit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-capital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London,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-Unit of Currency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in po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main exports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manufacturing goods, machinery, fuels, chemicals, and transport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religion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Christi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London,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lds the Elected House of Commons and the House of L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pulation is 6,775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s the great Buckingham Pa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ted on the Thames River, southeast U.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ted 80 miles from the Stoneh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337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Georgia"/>
              </a:rPr>
              <a:t>Physical Geography of Great Bri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English Channel and the Thames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mostly lowlands and highlands but the highlands are usually in Scot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has some mountains like the Pennines and are often called the “spine” or “backbone” of Engla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England’s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families have gotten smaller since 19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1 there was usually 4 people in a single family, but in 1985 the average was 2.5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living standards have ri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85 over 90 percent of homes had at least had 1 TV and a refrig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Lucida Console"/>
              </a:rPr>
              <a:t>Music, Sports, and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Went from violins and Beethoven to rock and The Beat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ey have soccer, tennis, football, cricket, badminton, horse racing, and rug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eir food is usually based on beef, lamb, pork, chicken and fish usually served with potatoes and vege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8229600" cy="195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82736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267080"/>
            <a:ext cx="2828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empus Sans ITC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Inside Great Britain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, Ian James, pgs 10,14-15, 19, and 3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England Enchantment of the World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, by Jean F. Blashfield, pg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empus Sans ITC"/>
                <a:hlinkClick r:id="rId1"/>
              </a:rPr>
              <a:t>http://www.woodlands-junior.kent.sch.uk/customs/question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empus Sans ITC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Tempus Sans ITC"/>
              </a:rPr>
              <a:t>http://www.answers.com/topic/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4:31:40Z</dcterms:created>
  <dc:creator>harrietcrosby</dc:creator>
  <dc:description/>
  <dc:language>en-US</dc:language>
  <cp:lastModifiedBy>harrietcrosby</cp:lastModifiedBy>
  <dcterms:modified xsi:type="dcterms:W3CDTF">2009-02-12T14:33:27Z</dcterms:modified>
  <cp:revision>6</cp:revision>
  <dc:subject/>
  <dc:title>Great Britain </dc:title>
</cp:coreProperties>
</file>